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D850-F53B-4BA6-B0AC-4C789A44D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1A7B-CD15-4DB7-9129-84362F1B4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9C18-FF76-4FFD-A311-897066C6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6FAD-DF94-4763-B9F0-7AC9A117B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5886-7319-46C9-86A3-8CCC3905A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C38B-4716-4DE7-AEC7-33708087E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77A-7334-4234-8117-C316C06DD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2CF4-FB76-4787-9D11-4C138D8B4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160-D024-4AB6-911D-6CDC7A78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073E-A196-478B-BCDF-FE6B4F09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5C9-3A08-4140-A126-DC6E6B3C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FBE-4014-4B89-B33C-2CBD6CE8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5E3-D062-4CF8-8948-A3091C8E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C03-87D9-4014-AB16-0A91B030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0A4-F45F-4C09-BD39-4C04EE02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1DA-C853-453E-984C-3495D76C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B5E-5319-450B-B7EB-7FFB1648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2EA-CFA6-48EE-A7DF-21D0D56B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5DA-E909-48A8-A925-C60AFCA7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185-A0FF-475D-88BE-B06B9838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0CE-48DB-4365-8663-85FE4E82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808-2DE8-4CC4-83EC-503D53A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B75E-59FD-4ED1-9F2C-0B5790601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erc.carleton.edu/1258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Quality and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C, Carleto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= Utility in meeting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uses of data take place in wildly diverse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” data for one educator may be useless for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ngle metric can capture “good for educ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s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textbook visualization, or dat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goal is to help the learner understand the sc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rying to tell a convincing story; demonstrate that scientific understanding is underpinned by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lean and direct in a way that may be misleadingly atyp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Exploration by Stu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ic ‘real’ process: frame problem, find/model data, ask questions, probe and analyze, revise questions, bring in different data, analyse. Rep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ducation this is usually scaffolded: data selected/formatted/subsetted, questions framed, analysis outlined, tool use explicated.  Focus student energy on the bits that matter (which depends on goals) in time available matched to student abilities and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Data Explo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to address real-world complex proble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tudents’ ability to use scientific methods, including consideration of the values and ethics of working with da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each students how to critically evaluate the integrity and robustness of data or evidence and of their consequent interpretations or conclu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raining in scientific, technical, quantitative, and communication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29080" y="629136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ata in the Classroom  http://serc.carleton.edu/3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Facilitates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allows curriculum developers to find and use appropriate data of interest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f knowledge for use i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is provided on relevance of data to problems of societal, educational or scientific signific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points to examples of educational use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re reliably available and archived for long term access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to, and organization of, the data is end-user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ve information (e.g. metadata) should be audience appropri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allows curriculum developers to ascertain the quality of data and determine the impact of data quality on the certainty of their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is provided about overall data collection, quality, reduction, and limitations. Data site includes sources of error and limitations of collection process as well as inaccuracies/ uncertainties from models/ particular choice of repres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accuracy of individual data sets/points/ analyses is provi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s provided in ways that facilitate manipulation through a variety of tools. This may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he data in common formats that are accessible via desktop tools (spreadsheets, GISs, image analysis progra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ools that are directly integrated into or downloadable from th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ing the data via protocols that make it accessible through 3rd party to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ools should be easily acquired, easy to use, and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supports, through these tools, data manipulation to answer question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ata contained within the site or combined with data from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ppropriate visua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student's own data to that in the s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0320" y="6138720"/>
            <a:ext cx="80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 Working Group Recommendations: http://serc.carleton.edu/63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heets: examples of education-facilitating contextual informatio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rc.carleton.edu/125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5800" y="7621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ploration from the Using Data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9480" y="1676520"/>
            <a:ext cx="7543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and accessing data relevant to the topic they are investiga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ng the quality of this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ppropriate tools and interfaces to manipulate and render data to answer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ing multiple and diverse data sets to solve a central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 visualizations and representations that communicate interpretations and conclu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ng student data to larger data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individual student data in the context of larger data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7:38:53Z</dcterms:created>
  <dc:creator>Sean Fox</dc:creator>
  <dc:description/>
  <dc:language>en-US</dc:language>
  <cp:lastModifiedBy>Carol Meyer</cp:lastModifiedBy>
  <dcterms:modified xsi:type="dcterms:W3CDTF">2011-07-14T16:31:49Z</dcterms:modified>
  <cp:revision>25</cp:revision>
  <dc:subject/>
  <dc:title>Data Quality and Education</dc:title>
</cp:coreProperties>
</file>